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5.wmf" ContentType="image/x-wmf"/>
  <Override PartName="/ppt/media/image18.gif" ContentType="image/gif"/>
  <Override PartName="/ppt/media/image8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0E35FB-23EE-4164-BBA7-B7CFA4E26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14E830-89BC-4D8A-B6B4-0F54A51ED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369396-5D94-402A-9CA0-FE6D30787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Our turn to share: How we opened up the task…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Started with an existing task (Hula Hoop Activity from TIPS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Developed learning goals based on the overall/specific expect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Focus on the big idea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5 minutes – do you think this is enough?  Also, rather than have them write all the BI and expectations, lets have them code it someway to make it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C20E17-8981-4352-900B-2CCD52140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 –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228F78D-3D6C-435A-96B8-39C3DC0B4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DF808A-3F4F-4F91-8123-318597AD1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 the participants to complete the statement:  "What's important about parallel tasks is …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complete on a sticky and post on the door as they le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5CFB7F-0CB9-4452-8B9E-D6B279BD5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3D6796C-28C3-401E-B640-FD3432B0A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with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 about follow-up with expectations and processes – just a reminder to include process expectations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DEE87E-28F3-44F5-9E6F-A0E2E8BD1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77D399-B40E-46D6-8D06-1AE959541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9F5FBDA-2F5D-4318-B6C2-C3FB08B23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2AFDC17-BC94-4CA4-9B0D-7549CEE55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F52B81-0CE9-4374-8836-0B773889D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470D01-3225-44AC-84C5-F347BDC90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37E-DD25-49DE-A209-A1552CEE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2BD-D33D-40A8-B29B-DA874578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79D-5262-4D91-B20D-C3F462EA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4BD-F636-4B81-ACFA-47CE9AD9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85FE-435A-4926-B260-771FD748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A7C2-B0DE-487A-815E-F9924786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3F4B-4892-4718-887F-F97ABEE5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0C1F-11C0-4452-8CFE-8CBF54FF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F8AF-999C-4F14-9DEC-08BEC2E8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78FB-5E3A-4939-B2D2-4011023D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1805-1363-41AF-9D48-3685B496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004-A25F-4D72-BA9E-9B5CF81B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1C2A-7C5F-4F26-B258-B91AA6FF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70C5-91EA-4300-90BE-F4854777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4DD8-578D-4FCB-8196-7237F5E1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A921-5C20-4E50-8D08-92FAC1E0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4638-41B8-4A03-AEB2-8123CAAD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F71-2F44-4072-AE92-008A326B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A92-CB7D-4AB9-BD43-0FCD9B55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7D6-E1FF-4C69-BBF9-BFD29F23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EAB-6405-4561-88A0-1DD9FF2F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4DA-086F-431A-8032-292647C5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332-5330-42B3-947C-48F49348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5E2-BD48-45C3-A0DA-2FD09074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6718-3114-45F2-889E-A66FC5A70FA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336600"/>
            <a:ext cx="8388360" cy="185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202520" y="135000"/>
            <a:ext cx="159048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487600" y="26676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Summer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73000" y="213336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0BBC-358D-4000-83A2-1EE24EDB4AE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685332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236000" y="152280"/>
            <a:ext cx="1590480" cy="5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43280" y="241200"/>
            <a:ext cx="32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Summer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ages.google.ca/imgres?imgurl=http://www.texarkanacollege.edu/~mstorey/NOVA/Image892.jpg&amp;imgrefurl=http://www.texarkanacollege.edu/~mstorey/NOVA/tiworkshops.html&amp;usg=__X0JPtT8oUsEa-Yk6bbQFk-9ediY=&amp;h=287&amp;w=249&amp;sz=21&amp;hl=en&amp;start=6&amp;tbnid=H_2TO7IwNN8LKM:&amp;tbnh=115&amp;tbnw=100&amp;prev=/images%3Fq%3DTI%2BCBR%26gbv%3D2%26hl%3Den%26sa%3D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google.ca/imgres?imgurl=http://www.ti83calculator.net/ti83.jpg&amp;imgrefurl=http://www.ti83calculator.net/&amp;usg=__Uy2lF01SbsJNbCom6Xq3_0bwehY=&amp;h=351&amp;w=225&amp;sz=22&amp;hl=en&amp;start=19&amp;tbnid=1JhiWyS8HNOPrM:&amp;tbnh=120&amp;tbnw=77&amp;prev=/images%3Fq%3DTI%2Bcalculator%26gbv%3D2%26hl%3Den%26sa%3D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40000" y="3141360"/>
            <a:ext cx="63784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er Institu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er 2009</a:t>
            </a:r>
            <a:br>
              <a:rPr sz="4400"/>
            </a:b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51280" y="907920"/>
            <a:ext cx="619272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33cc"/>
                </a:solidFill>
                <a:latin typeface="Arial"/>
              </a:rPr>
              <a:t>Quadratic &amp; Trigonometric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33cc"/>
                </a:solidFill>
                <a:latin typeface="Arial"/>
              </a:rPr>
              <a:t>Session 2</a:t>
            </a:r>
            <a:r>
              <a:rPr b="1" lang="en-CA" sz="2800" spc="-1" strike="noStrike">
                <a:solidFill>
                  <a:srgbClr val="21d15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580000" y="515772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cc"/>
                </a:solidFill>
                <a:latin typeface="Arial"/>
              </a:rPr>
              <a:t>Tom Chap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cc"/>
                </a:solidFill>
                <a:latin typeface="Arial"/>
              </a:rPr>
              <a:t>Judy Menda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76280" y="1904760"/>
            <a:ext cx="78595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How would the function change if the given point (-1, 5) changed to (-1, -5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AF91-D520-4067-B080-ED54DF8463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Parallel Tasks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… continued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lect one of the parallel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orm a group with others working on the sam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mplete the task by selecting one of the questions and then prompt each other using the follow-up question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Match the parallel task to a big idea and then find all the expectations that are addressed by the two parallel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994-2AB4-42CC-8460-F0AD2279EF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8400" y="169992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69b"/>
                </a:solidFill>
                <a:latin typeface="Arial"/>
              </a:rPr>
              <a:t>Break Tim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– Paralle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15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alk the Walk &amp; Talk the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6360" y="2565360"/>
            <a:ext cx="222876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67080"/>
            <a:ext cx="3240000" cy="3738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79640" y="2960640"/>
            <a:ext cx="1590840" cy="24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2F64-761E-49EA-BBE6-4338C4AD9E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… 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3280" y="1376280"/>
            <a:ext cx="5472000" cy="3141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3959280" cy="289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62520" y="495468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cord your thinking on your 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261-928F-4A15-BFF4-1D58B3B018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…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orm teams of four (walker, calculator operator, CBR manager, record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lect one of the walks pictured or create your own.  See BLM 3.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Discuss and record how you will “Walk the Walk”  to make the graph and use this knowledge to create a similar graph with a graphing calculator and a CB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C98-6245-421A-A661-0D675DC14F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56360" y="170028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1981440" cy="1319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048360" y="400536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606840" y="400536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871640" y="173664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B10-CBA5-4A71-A764-92CFAF64B3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…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ole group sh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Why is this a parallel/open task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Scaffolding questions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Concepts covered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Rates of change, periodic nature of walk, maximum, minimum, intervals of increase and decrease, points of inflect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Connection to big ideas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Talk the Talk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5BE-61F2-4183-B424-BBC292D6BB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Create a Parallel Task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844640"/>
            <a:ext cx="7777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773360"/>
            <a:ext cx="8748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lect a big idea and an overall expectation from either a quadratic relations strand or a trig. functions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sider the potential struggles that students might encounter with this big idea or expec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reate a lesson goal and an appropriate parallel task that addresses that expec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00D-6413-455E-A440-699038EEF7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490d8"/>
                </a:solidFill>
                <a:latin typeface="Arial"/>
              </a:rPr>
              <a:t>Consolidate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– Revisiting l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Join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Exchange parallel tasks for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rite suggestions on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1F8-F07C-42DC-96C3-97B4180FBE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1"/>
          <p:cNvSpPr/>
          <p:nvPr/>
        </p:nvSpPr>
        <p:spPr>
          <a:xfrm>
            <a:off x="539640" y="981000"/>
            <a:ext cx="8207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69b"/>
                </a:solidFill>
                <a:latin typeface="Verdana"/>
              </a:rPr>
              <a:t>Modeling in a </a:t>
            </a:r>
            <a:br>
              <a:rPr sz="4800"/>
            </a:br>
            <a:r>
              <a:rPr b="1" lang="en-US" sz="4800" spc="-1" strike="noStrike">
                <a:solidFill>
                  <a:srgbClr val="0d469b"/>
                </a:solidFill>
                <a:latin typeface="Verdana"/>
              </a:rPr>
              <a:t>Parallel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3744720" cy="280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A38-F8FF-4E7B-B7A7-64500E5B76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Consolidate / Debrief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2894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33399"/>
                </a:solidFill>
                <a:latin typeface="Verdana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86540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780-1CE8-4383-B8DE-F28A71CB2C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8" descr="C:\Users\Chili\AppData\Local\Microsoft\Windows\Temporary Internet Files\Content.IE5\BH9ZW7WV\MCj03963280000[1].wmf"/>
          <p:cNvPicPr/>
          <p:nvPr/>
        </p:nvPicPr>
        <p:blipFill>
          <a:blip r:embed="rId1"/>
          <a:srcRect l="25091" t="18386" r="64461" b="18386"/>
          <a:stretch/>
        </p:blipFill>
        <p:spPr>
          <a:xfrm>
            <a:off x="7358040" y="3429000"/>
            <a:ext cx="357120" cy="2214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3" name="Picture 13" descr="C:\Users\Chili\AppData\Local\Microsoft\Windows\Temporary Internet Files\Content.IE5\X3U5RRU8\MMj03566040000[1].gif"/>
          <p:cNvPicPr/>
          <p:nvPr/>
        </p:nvPicPr>
        <p:blipFill>
          <a:blip r:embed="rId2"/>
          <a:stretch/>
        </p:blipFill>
        <p:spPr>
          <a:xfrm>
            <a:off x="4643280" y="371484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785880" y="200016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lease fill in your exit card and hand it in to one of us as you leave!</a:t>
            </a:r>
            <a:r>
              <a:rPr b="0" lang="en-CA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8" descr="C:\Users\Chili\AppData\Local\Microsoft\Windows\Temporary Internet Files\Content.IE5\BH9ZW7WV\MCj03963280000[1].wmf"/>
          <p:cNvPicPr/>
          <p:nvPr/>
        </p:nvPicPr>
        <p:blipFill>
          <a:blip r:embed="rId3"/>
          <a:srcRect l="35579" t="18386" r="22630" b="10197"/>
          <a:stretch/>
        </p:blipFill>
        <p:spPr>
          <a:xfrm>
            <a:off x="7715160" y="3429000"/>
            <a:ext cx="1428840" cy="25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CE6-90F8-42C0-BBCF-0A4F57C700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ractice posing parallel and ope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Refine understanding of how different representations of relationships highlight different characteristics or behaviours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Highlight the importance of being conscious and explicit about instructional decisions; specifically, the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3DA-8C16-4947-A144-91E1E9D54C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1d15c"/>
                </a:solidFill>
                <a:latin typeface="Arial"/>
              </a:rPr>
              <a:t>Minds On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– 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Paralle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1785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Determine the equation of a function with the following proper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71680" y="2928960"/>
          <a:ext cx="7358040" cy="2652840"/>
        </p:xfrm>
        <a:graphic>
          <a:graphicData uri="http://schemas.openxmlformats.org/drawingml/2006/table">
            <a:tbl>
              <a:tblPr/>
              <a:tblGrid>
                <a:gridCol w="3678120"/>
                <a:gridCol w="367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1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4 and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           a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6143760" y="4500720"/>
                <a:ext cx="97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4643280" y="4929120"/>
                <a:ext cx="973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376-B426-4987-AD7E-8453612129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draw a grap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use algebr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ich did you do firs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2E1-3D65-4907-864F-AA9CB2C57A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Could you have predicted whether the ‘a’ value was positive or negative before you actually calculate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302-F2BD-4AC5-B832-60B8C63754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Is the value of ‘a’ what you expec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05F-5DC3-4F2F-9EF9-DCEC9EEBD1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need all three pieces of inform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y?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10A-7609-4DB5-AB03-6D3AFE1EA2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How did you determine the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843-8AFF-4851-AA94-FF0AB7027B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33:56Z</dcterms:created>
  <dc:creator>Myrna Ingalls</dc:creator>
  <dc:description/>
  <dc:language>en-US</dc:language>
  <cp:lastModifiedBy>Peel District School Board</cp:lastModifiedBy>
  <dcterms:modified xsi:type="dcterms:W3CDTF">2009-08-26T03:40:53Z</dcterms:modified>
  <cp:revision>154</cp:revision>
  <dc:subject/>
  <dc:title>OAME Leadership</dc:title>
</cp:coreProperties>
</file>